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ne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0840" y="5493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ene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t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5120" y="54936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enesmu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t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fäkationsreiz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3"/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fäkationsreiz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ntralu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xtralu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3"/>
            <a:endCxn id="11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4" name=""/>
          <p:cNvCxnSpPr>
            <a:stCxn id="110" idx="3"/>
            <a:endCxn id="11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973080" y="549360"/>
            <a:ext cx="46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enesmu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otdrang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Defäkationsreiz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8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tralu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6640" y="549360"/>
            <a:ext cx="75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Tenesmu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Kotdrang ↑ &gt; Defäkationsreiz ↑ &gt; intralum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k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riktu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struktiver 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xtralu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" y="54936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Tenesmu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Kotdrang ↑ &gt; Defäkationsreiz ↑ &gt; extralum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plasie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ckeneinen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nach Beckenfraktur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9" idx="3"/>
            <a:endCxn id="13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tzündung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artielle 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9720" y="54936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enesmu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tielle 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4160" y="5493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enesmu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drang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ntzündung/partielle 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LUT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olithiasis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kter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wegs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wegstumoren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trophie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karzin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3:20:59Z</dcterms:modified>
  <cp:revision>335</cp:revision>
  <dc:subject/>
  <dc:title>Vorstellung einer Neuheit</dc:title>
</cp:coreProperties>
</file>